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5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4.wmf" ContentType="image/x-wmf"/>
  <Override PartName="/ppt/media/image10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6.jpeg" ContentType="image/jpe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09200" cy="92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97332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96640" y="693720"/>
            <a:ext cx="4616280" cy="346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97332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2AFE2BB8-9274-4CB5-BDA8-57E8B09077B1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FCDB3C-FE72-4CC5-863F-446A44B2DAE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917640" y="4403880"/>
            <a:ext cx="5607000" cy="43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marL="181080" indent="-18108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A832DCB-1854-4661-8EAB-9323D6E7DA76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D9CA09E6-1F8B-4E7A-9473-055AFAB27AB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Footer Placeholder 3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lide Number Placeholder 4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50AC7EB-D594-4067-9990-D0C18B8079F4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475CA46-4C1A-4EBB-A341-E0926135A549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250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01280" y="4259160"/>
            <a:ext cx="5607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689F1FE-A9AA-4F51-8AFB-F849D9B3A9FE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CEDE51-08D8-4738-8B7C-DF72EE7B9042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96720" y="4258800"/>
            <a:ext cx="6361200" cy="480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97368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A43B43-2DE4-4658-B4CD-4DAFCD0E31DD}" type="slidenum">
              <a:rPr b="0" lang="en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spcAft>
                <a:spcPts val="2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spcAft>
                <a:spcPts val="2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97000" y="693720"/>
            <a:ext cx="4616280" cy="3462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1280" y="4387320"/>
            <a:ext cx="5607000" cy="41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Footer Placeholder 1"/>
          <p:cNvSpPr/>
          <p:nvPr/>
        </p:nvSpPr>
        <p:spPr>
          <a:xfrm>
            <a:off x="0" y="8774280"/>
            <a:ext cx="303516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MCI Powerpoint 2ba"/>
          <p:cNvPicPr/>
          <p:nvPr/>
        </p:nvPicPr>
        <p:blipFill>
          <a:blip r:embed="rId2"/>
          <a:stretch/>
        </p:blipFill>
        <p:spPr>
          <a:xfrm>
            <a:off x="-181080" y="-52560"/>
            <a:ext cx="9506160" cy="6937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MCI Powerpoint 2ba"/>
          <p:cNvPicPr/>
          <p:nvPr/>
        </p:nvPicPr>
        <p:blipFill>
          <a:blip r:embed="rId2"/>
          <a:stretch/>
        </p:blipFill>
        <p:spPr>
          <a:xfrm>
            <a:off x="0" y="-79200"/>
            <a:ext cx="9505800" cy="6937200"/>
          </a:xfrm>
          <a:prstGeom prst="rect">
            <a:avLst/>
          </a:prstGeom>
          <a:ln w="0">
            <a:noFill/>
          </a:ln>
        </p:spPr>
      </p:pic>
      <p:sp>
        <p:nvSpPr>
          <p:cNvPr id="41" name="Text Box 5"/>
          <p:cNvSpPr/>
          <p:nvPr/>
        </p:nvSpPr>
        <p:spPr>
          <a:xfrm>
            <a:off x="8172360" y="5661000"/>
            <a:ext cx="50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b79c5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.wmf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mailto:accesscentre@healthforceontario.ca" TargetMode="External"/><Relationship Id="rId2" Type="http://schemas.openxmlformats.org/officeDocument/2006/relationships/hyperlink" Target="http://www.healthforceontario.ca/Jobs/AccessCentre.asp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ontarioimmigration.ca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8353440" cy="118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95280" y="3573000"/>
            <a:ext cx="87487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800" spc="-1" strike="noStrike">
                <a:solidFill>
                  <a:srgbClr val="000000"/>
                </a:solidFill>
                <a:latin typeface="Arial"/>
              </a:rPr>
              <a:t>Helping Internationally Trained Individuals on their Professional Pa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OC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"/>
              </a:rPr>
              <a:t>November 15, 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5661000"/>
            <a:ext cx="1943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5580000" y="5518080"/>
            <a:ext cx="356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"/>
          <p:cNvPicPr/>
          <p:nvPr/>
        </p:nvPicPr>
        <p:blipFill>
          <a:blip r:embed="rId1"/>
          <a:stretch/>
        </p:blipFill>
        <p:spPr>
          <a:xfrm>
            <a:off x="3276720" y="1901880"/>
            <a:ext cx="2663640" cy="2147760"/>
          </a:xfrm>
          <a:prstGeom prst="rect">
            <a:avLst/>
          </a:prstGeom>
          <a:ln w="0">
            <a:noFill/>
          </a:ln>
        </p:spPr>
      </p:pic>
      <p:sp>
        <p:nvSpPr>
          <p:cNvPr id="92" name="WordArt 9"/>
          <p:cNvSpPr txBox="1"/>
          <p:nvPr/>
        </p:nvSpPr>
        <p:spPr>
          <a:xfrm>
            <a:off x="1187280" y="476280"/>
            <a:ext cx="691380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Global Experience Ontario</a:t>
            </a:r>
            <a:endParaRPr b="0" lang="en-US" sz="4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The Trades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pic>
        <p:nvPicPr>
          <p:cNvPr id="121" name="Picture 5" descr="MP900185001[1]"/>
          <p:cNvPicPr/>
          <p:nvPr/>
        </p:nvPicPr>
        <p:blipFill>
          <a:blip r:embed="rId1"/>
          <a:stretch/>
        </p:blipFill>
        <p:spPr>
          <a:xfrm>
            <a:off x="5970600" y="1187280"/>
            <a:ext cx="2444760" cy="3657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MC900197573[1]"/>
          <p:cNvPicPr/>
          <p:nvPr/>
        </p:nvPicPr>
        <p:blipFill>
          <a:blip r:embed="rId2"/>
          <a:stretch/>
        </p:blipFill>
        <p:spPr>
          <a:xfrm>
            <a:off x="127080" y="1255680"/>
            <a:ext cx="2502000" cy="3468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2" descr="MC900197791[1]"/>
          <p:cNvPicPr/>
          <p:nvPr/>
        </p:nvPicPr>
        <p:blipFill>
          <a:blip r:embed="rId3"/>
          <a:stretch/>
        </p:blipFill>
        <p:spPr>
          <a:xfrm>
            <a:off x="3583080" y="2698920"/>
            <a:ext cx="1950840" cy="24112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Trades in Ontario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There are over 150 trades in Ontario. Trades can be Compulsory or Volun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Currently 22 trades are Compulsory by legi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es compulsory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You must obtain a Certificate of Qualification to practice in a compulsory trade i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What does voluntary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2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- You don’t need to be certified, but certification may give you many benefi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400" spc="-1" strike="noStrike">
                <a:solidFill>
                  <a:srgbClr val="3b79c5"/>
                </a:solidFill>
                <a:latin typeface="Arial"/>
              </a:rPr>
              <a:t>The 22 Compulsory Trades</a:t>
            </a:r>
            <a:endParaRPr b="0" lang="en-US" sz="3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3960720" cy="474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lectrician: Construction and Mainten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lectrician: Domestic and R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Mobile Crane Operator Bran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Mobile Crane Operator Bran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oisting Engineer: Tower Crane Op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l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frigeration and Air Conditioning Systems Mech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idential Air Conditioning Systems Mech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idential (low-rise) Sheet Metal Inst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heet Metal Wo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611280" y="0"/>
            <a:ext cx="822960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468360" y="1197000"/>
            <a:ext cx="41860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4648320" y="1125360"/>
            <a:ext cx="4495680" cy="48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eamfi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lignment and Brakes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 Body and Collision Damage Repairer Branch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 Body Repairer Branch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motive Electronic Accessory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utomotive Servic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uel and Electrical Systems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airsty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otorcycl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ansmission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uck and Coach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ruck Trailer Service Technic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2800" spc="-1" strike="noStrike">
                <a:solidFill>
                  <a:srgbClr val="3b79c5"/>
                </a:solidFill>
                <a:latin typeface="Arial"/>
              </a:rPr>
              <a:t>How to get started in the trades:</a:t>
            </a:r>
            <a:r>
              <a:rPr b="0" i="1" lang="en-CA" sz="4000" spc="-1" strike="noStrike">
                <a:solidFill>
                  <a:srgbClr val="3b79c5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204640"/>
            <a:ext cx="821844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two pathways for working in the trades in Ontari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If you have already worked in a trade, you can apply to write a Certificate of Qualification Exam which will enable you to work in a compulsory trade. It may help if you gather your documentation before you arrive in Onta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pprenticesh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Apprenticeship is a hands-on training program for people who want to work in a skilled trade. About 90 per cent of apprenticeship training is provided in the workplace by employers.  Other training may be given in a classroom by a community colle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ZapfChancery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re are 25 apprenticeship offices across Ontario where you can regi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ttp://www.findhelp.ca/mtcu/appoff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mployment Ontario can help you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Decide which pathway is best for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get your credentials asse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Arial"/>
              </a:rPr>
              <a:t>How to apply to become certified, upgrade your skills, or get into apprenticesh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5873760" cy="12398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6300720" y="836640"/>
            <a:ext cx="24480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ww.ontario.ca/em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r c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1-800-387-56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981000"/>
            <a:ext cx="8147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of Trades will be a regulatory body for the skilled trades in Ontar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will regu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at is required to work in each of the trades in Ont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Who can be mem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fessional conduct and ethical standard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79280" y="0"/>
            <a:ext cx="867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3b79c5"/>
                </a:solidFill>
                <a:latin typeface="Arial"/>
              </a:rPr>
              <a:t>The New College of Trades</a:t>
            </a:r>
            <a:r>
              <a:rPr b="1" lang="en-CA" sz="2000" spc="-1" strike="noStrike">
                <a:solidFill>
                  <a:srgbClr val="3b79c5"/>
                </a:solidFill>
                <a:latin typeface="Arial"/>
              </a:rPr>
              <a:t> </a:t>
            </a:r>
            <a:r>
              <a:rPr b="1" lang="en-CA" sz="4000" spc="-1" strike="noStrike">
                <a:solidFill>
                  <a:srgbClr val="3b79c5"/>
                </a:solidFill>
                <a:latin typeface="Arial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1042920" y="2924280"/>
            <a:ext cx="6745320" cy="118116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5"/>
          <p:cNvSpPr/>
          <p:nvPr/>
        </p:nvSpPr>
        <p:spPr>
          <a:xfrm>
            <a:off x="539640" y="4581360"/>
            <a:ext cx="82915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GEO will provide information about and referrals to the compulsory trades as part of its mand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The College of Trades website: http://www.collegeoftrades.ca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Career Maps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684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reer Maps explain in detail every step of the registration proces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to apply to be license and which credentials are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Work experience requirements including Canadian wor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xper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nglish/French language requir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ustry trends and labour market condi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icensing fe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5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long the process may ta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t present, GEO develops and updates over 40 career maps for regulated professions and trades in partnership with regulatory bod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reer Maps are available online at: 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http://www.ontarioimmigration.ca/en/geo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5" descr=""/>
          <p:cNvPicPr/>
          <p:nvPr/>
        </p:nvPicPr>
        <p:blipFill>
          <a:blip r:embed="rId1"/>
          <a:srcRect l="0" t="0" r="9112" b="0"/>
          <a:stretch/>
        </p:blipFill>
        <p:spPr>
          <a:xfrm>
            <a:off x="7667640" y="1628640"/>
            <a:ext cx="1085760" cy="180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6" descr=""/>
          <p:cNvPicPr/>
          <p:nvPr/>
        </p:nvPicPr>
        <p:blipFill>
          <a:blip r:embed="rId2"/>
          <a:stretch/>
        </p:blipFill>
        <p:spPr>
          <a:xfrm>
            <a:off x="7524720" y="3933720"/>
            <a:ext cx="1619280" cy="12700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7"/>
          <p:cNvSpPr/>
          <p:nvPr/>
        </p:nvSpPr>
        <p:spPr>
          <a:xfrm>
            <a:off x="8675640" y="6021360"/>
            <a:ext cx="46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From Licensing to Employment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55280" y="1599840"/>
            <a:ext cx="7931160" cy="41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2268360" y="1916280"/>
            <a:ext cx="4718160" cy="344628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6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brochure_PNP"/>
          <p:cNvPicPr/>
          <p:nvPr/>
        </p:nvPicPr>
        <p:blipFill>
          <a:blip r:embed="rId1"/>
          <a:stretch/>
        </p:blipFill>
        <p:spPr>
          <a:xfrm rot="20400000">
            <a:off x="1476360" y="1773000"/>
            <a:ext cx="1724040" cy="403056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99640" y="5157720"/>
            <a:ext cx="741708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55" name="Rectangle 4"/>
          <p:cNvSpPr/>
          <p:nvPr/>
        </p:nvSpPr>
        <p:spPr>
          <a:xfrm>
            <a:off x="1187280" y="1746360"/>
            <a:ext cx="6840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176040" indent="-17604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1001"/>
              </a:spcBef>
              <a:buClr>
                <a:srgbClr val="99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brochure_Bridges"/>
          <p:cNvPicPr/>
          <p:nvPr/>
        </p:nvPicPr>
        <p:blipFill>
          <a:blip r:embed="rId2"/>
          <a:stretch/>
        </p:blipFill>
        <p:spPr>
          <a:xfrm rot="21000000">
            <a:off x="3058920" y="1341000"/>
            <a:ext cx="1722240" cy="4022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3"/>
          <a:srcRect l="119" t="0" r="0" b="0"/>
          <a:stretch/>
        </p:blipFill>
        <p:spPr>
          <a:xfrm rot="600000">
            <a:off x="4427640" y="1341000"/>
            <a:ext cx="1806480" cy="41576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brochure_Languages"/>
          <p:cNvPicPr/>
          <p:nvPr/>
        </p:nvPicPr>
        <p:blipFill>
          <a:blip r:embed="rId4"/>
          <a:stretch/>
        </p:blipFill>
        <p:spPr>
          <a:xfrm rot="1200000">
            <a:off x="6011640" y="1628640"/>
            <a:ext cx="1724040" cy="425628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8"/>
          <p:cNvSpPr/>
          <p:nvPr/>
        </p:nvSpPr>
        <p:spPr>
          <a:xfrm>
            <a:off x="755640" y="33336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Programs an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8675640" y="6021360"/>
            <a:ext cx="468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95280" y="216000"/>
            <a:ext cx="82296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3b79c5"/>
                </a:solidFill>
                <a:latin typeface="Arial"/>
              </a:rPr>
              <a:t>Bridge Training Programs in Ontario</a:t>
            </a:r>
            <a:endParaRPr b="0" lang="en-US" sz="3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712764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49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What do Ontario’s Bridge Training Programs d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vide training and opportunities to help internationally train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ividuals get registered to work in their profession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r to facilitate systemic chan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49040" indent="-149040">
              <a:lnSpc>
                <a:spcPct val="90000"/>
              </a:lnSpc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highly-skilled newcomers get jobs in their area of expertise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sidebar-reg_04"/>
          <p:cNvPicPr/>
          <p:nvPr/>
        </p:nvPicPr>
        <p:blipFill>
          <a:blip r:embed="rId1"/>
          <a:stretch/>
        </p:blipFill>
        <p:spPr>
          <a:xfrm>
            <a:off x="900000" y="2565360"/>
            <a:ext cx="1166760" cy="1297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Vision"/>
          <p:cNvPicPr/>
          <p:nvPr/>
        </p:nvPicPr>
        <p:blipFill>
          <a:blip r:embed="rId2"/>
          <a:stretch/>
        </p:blipFill>
        <p:spPr>
          <a:xfrm>
            <a:off x="6732720" y="692280"/>
            <a:ext cx="1488960" cy="11905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3348000" y="2276640"/>
            <a:ext cx="559440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Programs may inclu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cademic and/or skills assessme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linical or workplace experi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kills training or targeted academic training program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eparation for a licence or certification examinat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occupation-specific language trai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dividualized learning plans to address specific training nee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250920" y="4149720"/>
            <a:ext cx="640872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2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tner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176"/>
              </a:spcBef>
              <a:spcAft>
                <a:spcPts val="176"/>
              </a:spcAft>
              <a:buClr>
                <a:srgbClr val="000000"/>
              </a:buClr>
              <a:buSzPct val="80000"/>
              <a:buFont typeface="宋体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employers, post-secondary institutions, occupational regulatory bodies, community organizations and other levels of gover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8" descr="Physio_main"/>
          <p:cNvPicPr/>
          <p:nvPr/>
        </p:nvPicPr>
        <p:blipFill>
          <a:blip r:embed="rId3"/>
          <a:stretch/>
        </p:blipFill>
        <p:spPr>
          <a:xfrm>
            <a:off x="7236000" y="4508640"/>
            <a:ext cx="1584000" cy="64764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9"/>
          <p:cNvSpPr/>
          <p:nvPr/>
        </p:nvSpPr>
        <p:spPr>
          <a:xfrm>
            <a:off x="1258920" y="4941720"/>
            <a:ext cx="64818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citizenship.gov.on.ca/english/index.s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tp://www.ontarioimmigration.ca/en/working/OI_BRIDG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Internship and Mentorship Programs for ITIs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71" name="Content Placeholder 2"/>
          <p:cNvSpPr/>
          <p:nvPr/>
        </p:nvSpPr>
        <p:spPr>
          <a:xfrm>
            <a:off x="179280" y="1341360"/>
            <a:ext cx="878544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ntoring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ff3300"/>
                </a:solidFill>
                <a:latin typeface="Arial"/>
              </a:rPr>
              <a:t>www.thementoringpartnership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entoring bring together recent skilled immigrants and established professionals in occupation-specific mentoring relationshi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Mentors help break down employment barriers by offering industry-specific advice and contac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udies show that newcomers who go through the mentoring program earn more than their counterparts who do not participate in the mentoring pro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Ontario Public Service (OPS) Internship Program for Internationally Trained Individuals (ITI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www.careerbridge.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e OPS Internship Program for ITIs is designed specifically for professional newcomers to Ontario, so that they can earn valuable Canadian work experience in their professional fields within the OP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The OPS administers the program in partnership with the Career Edge Organization through their Career Bridge Program which serves newcomers across the provinc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3203640" y="4941720"/>
            <a:ext cx="1847880" cy="6001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6156360" y="4797360"/>
            <a:ext cx="2352600" cy="7239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2008_New_Ministry_Trillium_Logo"/>
          <p:cNvPicPr/>
          <p:nvPr/>
        </p:nvPicPr>
        <p:blipFill>
          <a:blip r:embed="rId3"/>
          <a:stretch/>
        </p:blipFill>
        <p:spPr>
          <a:xfrm>
            <a:off x="539640" y="4869000"/>
            <a:ext cx="1943280" cy="63792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7"/>
          <p:cNvSpPr/>
          <p:nvPr/>
        </p:nvSpPr>
        <p:spPr>
          <a:xfrm>
            <a:off x="8459640" y="5950080"/>
            <a:ext cx="46836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8820000" y="6021360"/>
            <a:ext cx="3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8560" y="1628640"/>
            <a:ext cx="878508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Global Experience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Snapshot of Immigration to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hallenges Newcomers Face When Settling in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Key W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14 Non-Health Regulated Prof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Health Regulated and Other Prof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22 Compulsory Tr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Career 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The Licensing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Programs an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26560" y="2997360"/>
            <a:ext cx="74170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rofessional immigrant networks (PINs) are organized, volunteer-run member-based associations or networks created by and for immigrant profession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PINs website improves the visibility of these networks and to makes it easier for immigrants, employers and other stakeholders to connect with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3300"/>
                </a:solidFill>
                <a:latin typeface="Arial"/>
              </a:rPr>
              <a:t>www.networksforimmigrants.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Features of the website include a searchable directory of networks, communication tools, a resource library and PINs success sto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Activities of PINs include networking events, mentoring, information sessions, professional development opportunities such as workshops, speaker events and training and connections to employment opportunit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1042920" y="260280"/>
            <a:ext cx="7128000" cy="24130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3b79c5"/>
                </a:solidFill>
                <a:latin typeface="Arial"/>
              </a:rPr>
              <a:t>Employment</a:t>
            </a:r>
            <a:endParaRPr b="0" lang="en-US" sz="40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Contact Employment Ontario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www.ontario.ca/employment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or 1-800-387-56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esume writing, job interview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etworking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kills assessment, training and related job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Get certified to work in a skilled trade and learn about apprentice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inistry of Training, Colleges and Universities/ Employment Ontario: </a:t>
            </a:r>
            <a:r>
              <a:rPr b="0" lang="en-CA" sz="1800" spc="-1" strike="noStrike" u="sng">
                <a:solidFill>
                  <a:srgbClr val="000000"/>
                </a:solidFill>
                <a:uFillTx/>
                <a:latin typeface="Arial"/>
              </a:rPr>
              <a:t>http://www.findhelp.ca/mtcu/appoff.html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8532720" y="6021360"/>
            <a:ext cx="61128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6920" y="260280"/>
            <a:ext cx="613116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b79c5"/>
                </a:solidFill>
                <a:latin typeface="Arial"/>
              </a:rPr>
              <a:t>OntarioImmigration.ca</a:t>
            </a:r>
            <a:endParaRPr b="0" lang="en-US" sz="36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40880" y="1427040"/>
            <a:ext cx="62643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aunched in 2006, </a:t>
            </a:r>
            <a:r>
              <a:rPr b="1" lang="en-CA" sz="2800" spc="-1" strike="noStrike" u="sng">
                <a:solidFill>
                  <a:srgbClr val="3b79c5"/>
                </a:solidFill>
                <a:uFillTx/>
                <a:latin typeface="Arial"/>
              </a:rPr>
              <a:t>OntarioImmigration.ca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is the province’s web-based information resource for prospective and landed immigr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7211880" y="1557360"/>
            <a:ext cx="1702080" cy="35272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7"/>
          <p:cNvSpPr/>
          <p:nvPr/>
        </p:nvSpPr>
        <p:spPr>
          <a:xfrm>
            <a:off x="8532720" y="5950080"/>
            <a:ext cx="6112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Referral Supports for </a:t>
            </a:r>
            <a:br>
              <a:rPr sz="3200"/>
            </a:b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Internationally Trained Individuals</a:t>
            </a:r>
            <a:br>
              <a:rPr sz="3200"/>
            </a:b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39640" y="1628640"/>
          <a:ext cx="8425080" cy="3703680"/>
        </p:xfrm>
        <a:graphic>
          <a:graphicData uri="http://schemas.openxmlformats.org/drawingml/2006/table">
            <a:tbl>
              <a:tblPr/>
              <a:tblGrid>
                <a:gridCol w="2808360"/>
                <a:gridCol w="1944720"/>
                <a:gridCol w="3672000"/>
              </a:tblGrid>
              <a:tr h="3703680"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ment 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al Institu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guage train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leges and Univers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tlement Agenc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tario Public Libra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Experience Onta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idging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torship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ship progra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cialized Language Training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nicipal Immigration Information Online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dential Assessment Servic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lthForceOnt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incial Nominee Progra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sional Immigrant Networ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cupational Regulatory Bod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85840" indent="-285840">
                        <a:spcAft>
                          <a:spcPts val="601"/>
                        </a:spcAft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3b79c5"/>
                </a:solidFill>
                <a:latin typeface="Arial"/>
              </a:rPr>
              <a:t>How To Contact GEO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42560" y="2565000"/>
            <a:ext cx="72010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Phone us at 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1-866-670-4094 or 416-327-96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TY: 416-327-9710 or 1866-388-22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E-mail us at: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 GEO@ontario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5" descr="work"/>
          <p:cNvPicPr/>
          <p:nvPr/>
        </p:nvPicPr>
        <p:blipFill>
          <a:blip r:embed="rId1"/>
          <a:stretch/>
        </p:blipFill>
        <p:spPr>
          <a:xfrm>
            <a:off x="2771640" y="1557360"/>
            <a:ext cx="3662640" cy="75564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7"/>
          <p:cNvSpPr/>
          <p:nvPr/>
        </p:nvSpPr>
        <p:spPr>
          <a:xfrm>
            <a:off x="8459640" y="5950080"/>
            <a:ext cx="505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-24336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3b79c5"/>
                </a:solidFill>
                <a:latin typeface="Arial"/>
              </a:rPr>
              <a:t>Immigration – Ontario Context</a:t>
            </a:r>
            <a:endParaRPr b="0" lang="en-US" sz="36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382752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Arial"/>
              </a:rPr>
              <a:t>Between 2007 and 2011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546,601 immigrants came to Ontario from more than 200 count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Nearly 78% intended to settle in the Greater Toronto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73% indicated language ability in at least one of Canada’s two official languag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5076720" y="4724280"/>
            <a:ext cx="353880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9200" indent="-349200"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anada and Ontario receive immigrants from more than 200 countries, demonstrating a unique breadth of diversity among all the major immigrant accepting count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250920" y="5373720"/>
            <a:ext cx="32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000000"/>
                </a:solidFill>
                <a:latin typeface="Arial"/>
              </a:rPr>
              <a:t>Source: Citizenship and Immigration Cana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Chart 16" descr=""/>
          <p:cNvPicPr/>
          <p:nvPr/>
        </p:nvPicPr>
        <p:blipFill>
          <a:blip r:embed="rId1"/>
          <a:stretch/>
        </p:blipFill>
        <p:spPr>
          <a:xfrm>
            <a:off x="4797360" y="987480"/>
            <a:ext cx="4102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3280" y="259920"/>
            <a:ext cx="6516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Global Experience Ontario (GEO)             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339640" y="1267920"/>
            <a:ext cx="61196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38840" indent="-438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EO is an Access Centre which provides information and assistance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How to become registered to work in 14 non-health regulated professi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ternship and mentorship progr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GEO serv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Internationally train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0520" indent="-43884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takeholders who work with internationally trained individ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Language instru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Social service and employment work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Community ag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22560" indent="-438480">
              <a:lnSpc>
                <a:spcPct val="80000"/>
              </a:lnSpc>
              <a:spcBef>
                <a:spcPts val="349"/>
              </a:spcBef>
              <a:spcAft>
                <a:spcPts val="349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Job Fairs and conferen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" descr=""/>
          <p:cNvPicPr/>
          <p:nvPr/>
        </p:nvPicPr>
        <p:blipFill>
          <a:blip r:embed="rId1"/>
          <a:srcRect l="119" t="0" r="0" b="0"/>
          <a:stretch/>
        </p:blipFill>
        <p:spPr>
          <a:xfrm>
            <a:off x="179280" y="1125360"/>
            <a:ext cx="1970280" cy="453564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8388360" y="6021360"/>
            <a:ext cx="1081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-243360"/>
            <a:ext cx="8229600" cy="16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CA" sz="2800" spc="-1" strike="noStrike">
                <a:solidFill>
                  <a:srgbClr val="538acd"/>
                </a:solidFill>
                <a:latin typeface="Arial"/>
              </a:rPr>
              <a:t>The</a:t>
            </a:r>
            <a:r>
              <a:rPr b="1" lang="en-CA" sz="2400" spc="-1" strike="noStrike">
                <a:solidFill>
                  <a:srgbClr val="538acd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538acd"/>
                </a:solidFill>
                <a:latin typeface="Arial"/>
              </a:rPr>
              <a:t>14 Non-Health Regulated Professions Include: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418608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.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2. Certified Engineering Technici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d Technolog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3. Certified General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4. Certified Management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5. Chartered Accoun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6. Early Childhoo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7.  Fores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8320" y="980640"/>
            <a:ext cx="449568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8.  Land Survey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9.  Law (including Paraleg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0. Professional Engine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1. Professional Geoscient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2. Social Work and Social  Service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3. Tea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4. Veterinary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8459640" y="5589720"/>
            <a:ext cx="10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Challenges Faced by Internationally Trained Individuals (ITIs)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on 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aining Canadian Work exper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employment in thei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need to upgrade their language ability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building a network or profession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llenges during the professional licens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information about how to get licensed in their fie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iculty in providing original documents such as transcripts and degree from their country of origin on arriv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ing information about alternative careers while pursuing their lic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ying examination/licensing/registration fe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8820000" y="6021360"/>
            <a:ext cx="32400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Health-Regulated</a:t>
            </a:r>
            <a:r>
              <a:rPr b="0" lang="en-CA" sz="2800" spc="-1" strike="noStrike">
                <a:solidFill>
                  <a:srgbClr val="3b79c5"/>
                </a:solidFill>
                <a:latin typeface="Arial"/>
              </a:rPr>
              <a:t> </a:t>
            </a:r>
            <a:r>
              <a:rPr b="1" lang="en-CA" sz="2800" spc="-1" strike="noStrike">
                <a:solidFill>
                  <a:srgbClr val="3b79c5"/>
                </a:solidFill>
                <a:latin typeface="Arial"/>
              </a:rPr>
              <a:t>Professions</a:t>
            </a:r>
            <a:endParaRPr b="0" lang="en-US" sz="28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"/>
              </a:rPr>
              <a:t>Health Regulated Profess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ealthForceOntario (HFO) is an Access Centre that helps Internationally Educated Health Regulated Professionals with free information, advice, and support on the licensing process to practice in Ontar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tact HF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63 Queen Street East, 2</a:t>
            </a:r>
            <a:r>
              <a:rPr b="0" lang="en-CA" sz="1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Floor, Toronto, On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elephone: 1-800-596-40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CA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ccesscentre@healthforceontario.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bsite: </a:t>
            </a:r>
            <a:r>
              <a:rPr b="0" lang="en-CA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healthforceontario.ca/Jobs/AccessCentre.aspx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3b79c5"/>
                </a:solidFill>
                <a:latin typeface="Arial"/>
              </a:rPr>
              <a:t>Licensing Process</a:t>
            </a:r>
            <a:endParaRPr b="0" lang="en-US" sz="44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ulatory 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General elig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Languag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cademic credentials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Practical and/or Canadian work experi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Examination and/or practise 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dditional co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ees and financi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8532720" y="6021360"/>
            <a:ext cx="611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3b79c5"/>
                </a:solidFill>
                <a:latin typeface="Arial"/>
              </a:rPr>
              <a:t>Strategies to help internationally trained individuals along their path</a:t>
            </a:r>
            <a:endParaRPr b="0" lang="en-US" sz="3200" spc="-1" strike="noStrike">
              <a:solidFill>
                <a:srgbClr val="3b79c5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8280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tay connected to the regulatory body or related professional associ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heck regularl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Regulatory body and related professional/networking webs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ntarioimmigration.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dentify services, programs and tools that can help yo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Bridge Trai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English and French as a Second Langu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Occupational Specific Language Trai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Mentoring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Internship 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rofessional Immigrant Networks (PI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Voluntee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Find a Career Map, fact sheets or other useful gu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Municipal Immigration Portal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ttp://www.ontarioimmigration.ca/en/living/OI_HOW_LIVE_CITIE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8604360" y="6021360"/>
            <a:ext cx="53964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2T15:43:55Z</dcterms:created>
  <dc:creator>tullomo</dc:creator>
  <dc:description/>
  <dc:language>en-US</dc:language>
  <cp:lastModifiedBy>Levin, Leah (MCI)</cp:lastModifiedBy>
  <cp:lastPrinted>2012-11-07T21:36:36Z</cp:lastPrinted>
  <dcterms:modified xsi:type="dcterms:W3CDTF">2012-11-16T19:09:05Z</dcterms:modified>
  <cp:revision>545</cp:revision>
  <dc:subject/>
  <dc:title>Slide 1</dc:title>
</cp:coreProperties>
</file>